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943725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5553-9765-4AFC-9724-6D8F014B4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EB3D-9315-4BC8-B289-C24F2A0D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68CF-5D7B-48D7-A294-753AE758E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761-1BEE-4189-9321-D8DF30CA2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A347-F6A2-48CF-AF33-45097585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513960"/>
            <a:ext cx="250236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140-96F3-475F-8E71-00817DB9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1A8-0741-4012-9FBF-93D48DB6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4D51-0719-4159-B8DE-ECB9ABE3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09720" y="791280"/>
            <a:ext cx="77724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20D-0EDD-435B-9817-975B622B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905F-3908-41D8-AFD1-2518DDAF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51396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8025-5F34-48F4-8145-95D8419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513960"/>
            <a:ext cx="7772400" cy="153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D6F-1BA8-40CA-8472-BE05A24AE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main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322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spcAft>
                <a:spcPts val="150"/>
              </a:spcAft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527880"/>
            <a:ext cx="289584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863640" y="656604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44C7-3C9E-47D5-9CF4-76722CBF355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itl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33480" y="4823280"/>
            <a:ext cx="777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spcAft>
                <a:spcPts val="113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spcAft>
                <a:spcPts val="99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4114440"/>
            <a:ext cx="8001000" cy="119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d00a4"/>
                </a:solidFill>
                <a:latin typeface="Arial"/>
              </a:rPr>
              <a:t>Optimizing For Hardware Transform and Lighting</a:t>
            </a:r>
            <a:endParaRPr b="1" lang="en-US" sz="36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 Dietri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ietrich@nvidia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hared Resource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PU is a co-processor to the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can keep both processors busy, speed will be excell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ever, to work together, the CPU and GPU must sometimes shar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xtur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the sharing is managed poorly, you will get no overlap between the GPU and CPU and performance will s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Keeping GPU &amp; CPU Bus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a shared resour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write data into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U must read data out of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PI tries to ensure that both of these won’t occur in the same place at the sam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trol how strictly access to the VB is manag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is managed through three flags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WRITEON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DISCARDCONT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WRITE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3DVBCAPS_WRITEONLY when creating your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this fla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NOT USE DDVBCAPS_SYSTEMMEMORY, or you will not get AGP or video memory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will require the driver to copy the data into AGP firs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could have just put it there yourself and saved the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specify this cap, you can only lock w/ DDLOCK_WRITEON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DISCARDCONTENT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flag tells D3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just need more space, give me a pointer with junk in it, please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cifying this flag allows the driver to “rename”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saying that you don’t want the object back that you just drew, you are saying that you are going to fill up part of this with new dat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prevents stalling the CPU &amp; G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DLOCK_NOOVERWRIT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5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DLOCK_NOOVERWRITE says “I am just appending data to the VB, no need to stal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lows you to append data to a VB without incurring a stall of the GPU &amp; C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Using These Flags Togeth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0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of Frame – Lock your Dynamic VB with DDLOCK_DISCARDCONT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iving you an empty buff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with data to ren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Unlock(), then DrawIndexedPrimitiveVB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w, as long as there is room in the VB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ck with DDLOCK_NOOVERWR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end Data into VB poin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lock(), and DIPVB(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un out of room, just lock the SAME VB with the DDLOCK_DISCARDCONTENTS and repe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Dynamic VB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ly use ONE dynamic 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 issue with DX7 requires this for 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implies using the largest FVF you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triangles in large batches if you c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DrawPrimitive, or DrawIndexedPrimitive, even for 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ALWAYS cause a stall of the GPU &amp; CP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out your system’s AGP perf with BenMark from ou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 should get 14 million tps @ AGP2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~22 million w/ AGP 4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VB Perf Tip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8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ing VB is more expensive than changing textures – this is an API thing, not the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do your own VB “round robin” – that’s what the DDLOCK_DISCARDCONTENTS flag is f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use ONLY DDLOCK_DISCARDCONTENTS, there are only so many “rename” buffers – use appending,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only one or two static VBs, and use index lists for different objects within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into DynamicVBs sequentially for AGP write-combining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ource Cod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rote an extremely lightweight wrapper for correct Dynamic VB functiona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NVIDIA’s Developer Webs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++ heads ( like m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p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for C ty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ynamicVB.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Cull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PU is still needed for gross cul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 Frustu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here, AABB, OBB, Cone, Cylind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cclus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’t use span buffers or C-buffer – too much CPU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ght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lights that are too far away to affect the obje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point lights into directional if far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g Cul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rn off fog if objects are too far from the fog pla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Goo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90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&amp;L is extremel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eForce2 GTS can achieve 22 million drawn triangles per second – Quadro2, Ultra even mo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ardware T&amp;L correctly is very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DX7, it all happens through Vertex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Culling and Clipp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 gross culling on the CPU, but leave the Clipping to the GP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H/W clipping to be fast ( GeForce clipping is essentially free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guard band clipping to be very f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cull individual polys unless you cull them very early and they are quite expens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ling should be at the model or hierarchy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world geometry at the BSP Leaf or OctTree cub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/W will clip out  1.0 &lt; z &lt; 0.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CPU to perform gross LO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r terrain, don’t use ROAM – too CPU heavy – cheaper to just draw the darn triangles than to figure out which ones to draw and which to ski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do adaptive terrain, do one where y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don’t track previous frame’s terr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Don’t do screen space error for every triang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) Can ‘quit’ at a high enough level to keep large batch sizes – Quadtree approach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n’t do View-dependent progressive mes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ain, too much CPU wor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ew Independent Progressive Meshes look great and are trivial to use with vertex buff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OD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er try to scale to frame rate by adding or removing triangles in small groups on a T&amp;L c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just wasting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90% of frame rate drops are CPU or fill-bound, not triangle boun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 less LOD calculations when frame rate drops, not more, save the CPU tim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depth of volumetric effects, especially when player is nea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duce particle counts, especially when player is inside the particle syste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yer won’t not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Lighting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ulti-pass, you often don’t need it on for both pa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n &amp; off lights per object based on distance from l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per-vertex material properties if you don’t need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ing the per-vertex diffuse for the diffuse material is expensive – use it wisel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local viewer for specular lighting if not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are not sure, you probably wouldn’t not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off SpecularEnable if you aren’t using specular for this 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Vertex Cach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92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Force GPUS have a ~10 entry FIFO vertex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t-transformed vert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reuse an indexed triangle within 10 vertices, you save the AGP B/W &amp; transform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don’t index, or don’t re-use, you pay both AGP &amp; transform aga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fastest primitive is indexed strips, sometimes only the cost of one short per triangle if all reside in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NVStripifer on our website to optimize your mode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1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 known fa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fill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ry app is Xform or setup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In different parts of the same sce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Engines in parallel – vertex and pix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fill rate, b/w and max xform/setup rate you can determine what the optimal triangle size is for a G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GeForce, with a few lights on it’s about 100 pixel triang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gger Tris get you temporarily fill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er Tris get you vertex b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expensive vertices ( more lights or xform work ) need bigger triangles to balance o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Triangle Size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temporarily fill bound ( Tri too big ), you lose xform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 are xform bound ( xformed vertex cache is full ) you loose potential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one reason why you may not see the optimal vertex or fill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one engine is backed up, the other will eventually idle – and you never get this time back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you are drawing the sky, you lose potential triangl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at you can tessellate down to the optimal triangle size in these cases for FRE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Other Optimizations : Stat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IDIA has provided a Statistics Driver for registered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itten by Ken Hurle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install two par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monitoring prog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special stats dri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start the monitoring and then run your ap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r, you can use a hotkey to toggle the stats coll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 your app and see where you are forcing a SpinLock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means the CPU &amp; GPU are id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tats Driver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means the CPU is waiting on the GPU to finish with someth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sually a shared resour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apps spend quite a bit of time her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s time is totally was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tat Driver monitor will tell you where your d3d &amp; driver CPU time is go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r app should be spending &gt; 60% of the Driver time in DrawIndexedPrimitiveV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Lock() should be &lt; 5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log file can help you track down the culpri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8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&amp;L is Faster, but it is differ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irst time you port to DX7, you will almost certainly do it wrong! ;(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Static VBs for static geomet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eam vertex data through Dynamic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stat driver often when working on rendering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ake out stalls as soon as they are introduc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ure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B or ZB 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B Locks w/out proper fla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wPrimitive or DIP, not the VB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The Bad New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7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ing HW T&amp;L incorrectly is even *easier* than getting i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me apps are slower when first ported to T&amp;L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? Because the obvious way to use VBs is NOT the right 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replace many DrawPrimitive calls with many DrawPrimitiveVB calls, you will be very disappoint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Questions…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771720" y="1600200"/>
            <a:ext cx="15872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3750"/>
              </a:spcBef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4191120"/>
            <a:ext cx="586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 Dietr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.dietrich@nvidia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HW T&amp;L : A New API Path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“D3D TnL HAL” Device is new for DX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allows access to 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P and video memory vertex buff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exture Coordinate Generation “TexGen”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Fo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Light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Cli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W Transform &amp; Proje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D3D TnL HAL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nL HAL is a different API and driver path than the H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has different Performance Characteri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ven more oriented towards batching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gher memory overhead for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DDraw Surfaces, so have a 2K memory overh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ry expensive to create VB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as the potential to be lighter-weight and faster than the HA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What is a Vertex Buffer, Anyway?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are two answers to this question, one for Static VBs, and one for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c VBs are like textures.  You create them at level load time in AGP or video memory and leave them t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eat for terrain, rigid-body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ot good for skinned, animated characters or procedural eff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VER create a VB at runtime – it can take 100s of milliseco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Vertex Buffers are Write Only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52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are not designed for getting results back with ProcessVertices(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never get the result of T&amp;L ba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at’s O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f you need to do collision detection or culling, you’d do best to use a separate simpler database any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125"/>
              </a:spcAft>
              <a:buClr>
                <a:srgbClr val="3d00a4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se in point – Do you really need to walk through U,Vs &amp; diffuse colors when doing collision work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Bs should always be WRITE_ONLY – even on non T&amp;L de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VBs are sort of like like streaming DVD vid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re is not enough space to hold every possible frame of animation, just like there wouldn’t be enough space to hold a DVD video in ra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us, many effects are truly dynamic and have an essentially infinite number of possible stat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ocus is on getting the vertex data from the app to the card as efficiently as possib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09720" y="79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39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d00a4"/>
                </a:solidFill>
                <a:latin typeface="Arial"/>
              </a:rPr>
              <a:t>The Myths Of Dynamic VBs</a:t>
            </a:r>
            <a:endParaRPr b="1" lang="en-US" sz="3200" spc="-1" strike="noStrike">
              <a:solidFill>
                <a:srgbClr val="3d00a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3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your data isn’t static, you can’t use T&amp;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rong, VBs were designed to handle Dynamic data, t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T&amp;L is so slow as to be worthl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otally incorrect, Dynamic T&amp;L is still faster than static CPU T&amp;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spcAft>
                <a:spcPts val="13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50"/>
              </a:spcAft>
              <a:buClr>
                <a:srgbClr val="3d00a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hard to manage Dynamic VB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spcAft>
                <a:spcPts val="139"/>
              </a:spcAft>
              <a:buClr>
                <a:srgbClr val="3d00a4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have a single page of source code to prove this one wro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3:12:18Z</dcterms:created>
  <dc:creator>Richard Huddy</dc:creator>
  <dc:description/>
  <dc:language>en-US</dc:language>
  <cp:lastModifiedBy>Cem Cebenoyan</cp:lastModifiedBy>
  <dcterms:modified xsi:type="dcterms:W3CDTF">2000-10-06T21:30:25Z</dcterms:modified>
  <cp:revision>40</cp:revision>
  <dc:subject/>
  <dc:title>Hardware Transform and Lighting</dc:title>
</cp:coreProperties>
</file>